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0.pct" ContentType="image/x-pict"/>
  <Override PartName="/ppt/media/image8.png" ContentType="image/png"/>
  <Override PartName="/ppt/media/image19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9.png" ContentType="image/png"/>
  <Override PartName="/ppt/media/image22.pct" ContentType="image/x-pict"/>
  <Override PartName="/ppt/media/image6.pct" ContentType="image/x-pict"/>
  <Override PartName="/ppt/media/image29.emf" ContentType="image/x-emf"/>
  <Override PartName="/ppt/media/image4.pct" ContentType="image/x-pict"/>
  <Override PartName="/ppt/media/image27.pct" ContentType="image/x-pict"/>
  <Override PartName="/ppt/media/image11.png" ContentType="image/png"/>
  <Override PartName="/ppt/media/image3.pct" ContentType="image/x-pict"/>
  <Override PartName="/ppt/media/image26.pct" ContentType="image/x-pict"/>
  <Override PartName="/ppt/media/image28.pct" ContentType="image/x-pict"/>
  <Override PartName="/ppt/media/image24.pct" ContentType="image/x-pict"/>
  <Override PartName="/ppt/media/image23.pct" ContentType="image/x-pict"/>
  <Override PartName="/ppt/media/image21.png" ContentType="image/png"/>
  <Override PartName="/ppt/media/image20.pct" ContentType="image/x-pict"/>
  <Override PartName="/ppt/media/image18.pct" ContentType="image/x-pict"/>
  <Override PartName="/ppt/media/image17.pct" ContentType="image/x-pict"/>
  <Override PartName="/ppt/media/image15.pct" ContentType="image/x-pict"/>
  <Override PartName="/ppt/media/image14.pct" ContentType="image/x-pict"/>
  <Override PartName="/ppt/media/image25.pct" ContentType="image/x-pict"/>
  <Override PartName="/ppt/media/image2.pct" ContentType="image/x-pict"/>
  <Override PartName="/ppt/media/image16.pct" ContentType="image/x-pict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2100-807B-4013-ABAA-C5E18F59E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1B2A-53EF-4B94-8030-6D98CD1E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7C37-3DCD-4A20-A343-31A652ED1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0A45-ED2F-4CD0-B834-83B2A8DB8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ABDA-34F3-49DD-B840-C2A2FA8B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1F78-DCF5-4026-83B3-D5E8C77B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B823-59D7-4D19-BC60-2791DCC8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6F18-785F-4E80-98F8-DD241E38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6A1A-6B54-4026-87CF-3E731D31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6198-BF40-4B63-8F67-E1C8C4D7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9C5C-5661-48FF-875F-3EDDC448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7082-113C-4622-8666-EB57C967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A384-4DA3-4153-95DC-1F18D092E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.pct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ct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image" Target="../media/image18.pct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image" Target="../media/image20.pct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ct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ct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ct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ct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ct"/><Relationship Id="rId3" Type="http://schemas.openxmlformats.org/officeDocument/2006/relationships/image" Target="../media/image29.e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-838080"/>
            <a:ext cx="774396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apter 3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Physical Fitness and Health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3520" y="228600"/>
          <a:ext cx="2427120" cy="3505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228600"/>
                    <a:ext cx="242712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29400" cy="6629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0880" y="228600"/>
            <a:ext cx="8458200" cy="59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Times New Roman"/>
              </a:rPr>
              <a:t>Flexibilit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bility to move a body part through a full range of mo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est:  Sit and reach or sit and stret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22440" y="379440"/>
            <a:ext cx="6097680" cy="6097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" y="380880"/>
            <a:ext cx="8381880" cy="59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Times New Roman"/>
              </a:rPr>
              <a:t>Muscular Strength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mount of force a muscle can exer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est: push-ups or pull-ups (upper body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url-ups (abdominal strength)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457200"/>
            <a:ext cx="8534520" cy="48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Times New Roman"/>
              </a:rPr>
              <a:t>Muscular Enduranc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bility of muscles to do difficult physical tasks over a period of time without causing fatigu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est:  leg lif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304920"/>
            <a:ext cx="8534160" cy="56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Times New Roman"/>
              </a:rPr>
              <a:t>Cardiorespiratory Enduranc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bility of the heart, lungs, and blood vessels, to send fuel and oxygen to the body’s tissues during long periods of vigorous activ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st: 3-minute step test, mile ru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2590920" cy="2590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380880"/>
            <a:ext cx="8534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ff00"/>
                </a:solidFill>
                <a:latin typeface="Times New Roman"/>
              </a:rPr>
              <a:t>Lesson 2:  Exercise and Fitnes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80880" y="1752480"/>
          <a:ext cx="2965680" cy="454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752480"/>
                    <a:ext cx="2965680" cy="45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228600" y="228600"/>
            <a:ext cx="8686800" cy="63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Times New Roman"/>
              </a:rPr>
              <a:t>Benefits to Physical Health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trong body, reduce chronic fatigue, strengthens body’s muscles, skeleton, and other moving parts.  Protects against disea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019920" y="1219320"/>
          <a:ext cx="2936880" cy="160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1219320"/>
                    <a:ext cx="2936880" cy="16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4920" y="-1981080"/>
            <a:ext cx="8839080" cy="8839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4920" y="228600"/>
            <a:ext cx="8534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ontributes to the functioning of the nervous system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(improved reaction time)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circulatory system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(strengthens heart muscle)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and respiratory system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(increases lung capacity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8600" y="228600"/>
            <a:ext cx="87631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Times New Roman"/>
              </a:rPr>
              <a:t>Exercise and Weight Contro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106668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ne out of every three American adults and one out of every five teens is overweight or obe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4038480"/>
            <a:ext cx="8458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is situation can be traced to overeating and a </a:t>
            </a:r>
            <a:r>
              <a:rPr b="1" lang="en-US" sz="4000" spc="-1" strike="noStrike">
                <a:solidFill>
                  <a:srgbClr val="00ff00"/>
                </a:solidFill>
                <a:latin typeface="Times New Roman"/>
              </a:rPr>
              <a:t>SEDENTARY LIFESTYLE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-a way of life that requires little movement or exerci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380880"/>
            <a:ext cx="8305920" cy="56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Times New Roman"/>
              </a:rPr>
              <a:t>Problem of Overweight related to two concepts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-Metabolism-process by which your body gets energy from fo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-Basal Metabolism-minimum amount of energy required to maintain the life processes in a bod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152280"/>
            <a:ext cx="8763120" cy="73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Calories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-units of heat that measure the energy value of fo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Your metabolic rate increases during exercise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-If you take in fewer calories               than you burn, you </a:t>
            </a:r>
            <a:r>
              <a:rPr b="1" lang="en-US" sz="4000" spc="-1" strike="noStrike">
                <a:solidFill>
                  <a:srgbClr val="00ff00"/>
                </a:solidFill>
                <a:latin typeface="Times New Roman"/>
              </a:rPr>
              <a:t>lose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weigh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-If you take in more calories                 than you burn, you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gai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weigh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400800" y="32004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179280"/>
            <a:ext cx="830592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ff00"/>
                </a:solidFill>
                <a:latin typeface="Times New Roman"/>
              </a:rPr>
              <a:t>Lesson 1: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ff00"/>
                </a:solidFill>
                <a:latin typeface="Times New Roman"/>
              </a:rPr>
              <a:t>Physical Fitnes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9600" spc="-1" strike="noStrike">
                <a:solidFill>
                  <a:srgbClr val="ffff00"/>
                </a:solidFill>
                <a:latin typeface="Times New Roman"/>
              </a:rPr>
              <a:t>and You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181480" y="2438280"/>
          <a:ext cx="3556080" cy="33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438280"/>
                    <a:ext cx="3556080" cy="33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04920" y="228600"/>
            <a:ext cx="8534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ff00"/>
                </a:solidFill>
                <a:latin typeface="Times New Roman"/>
              </a:rPr>
              <a:t>One pound of fat=</a:t>
            </a:r>
            <a:r>
              <a:rPr b="1" i="1" lang="en-US" sz="9600" spc="-1" strike="noStrike">
                <a:solidFill>
                  <a:srgbClr val="ffffff"/>
                </a:solidFill>
                <a:latin typeface="Times New Roman"/>
              </a:rPr>
              <a:t>3500 calories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276800" y="1905120"/>
            <a:ext cx="4867200" cy="4267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228600"/>
            <a:ext cx="8381880" cy="56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Times New Roman"/>
              </a:rPr>
              <a:t>Benefits to Mental and Emotional Health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educe emotional stress, sleep better, refreshes people, healthy outlet for tension, anger,or frustrations.  Sense of pride and accomplishment.  Positive self-estee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400800" y="4724280"/>
            <a:ext cx="2440080" cy="2440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8600" y="304920"/>
            <a:ext cx="8610480" cy="41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Times New Roman"/>
              </a:rPr>
              <a:t>Benefits to Social Health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Form new friendships,workout more enjoyable, motivat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28600" y="41911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400800" y="42670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228600"/>
            <a:ext cx="8686800" cy="48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Times New Roman"/>
              </a:rPr>
              <a:t>Aerobic exercise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-vigorous activity in which oxygen is continuously taken in for a period of at least 20 minutes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.(jogging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wimming, dancing, brisk walking.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095880" y="3124080"/>
            <a:ext cx="3505320" cy="3505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666880" y="4572000"/>
            <a:ext cx="2210040" cy="2014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22440" y="379440"/>
            <a:ext cx="6097680" cy="60976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80880" y="380880"/>
            <a:ext cx="8382240" cy="60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Times New Roman"/>
              </a:rPr>
              <a:t>Anaerobic exercis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tense burst of activity in which the muscles work so hard that they produce energy without using oxyg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100-meter dash,calisthenics, weight traini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8600" y="152280"/>
            <a:ext cx="8763120" cy="52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ff00"/>
                </a:solidFill>
                <a:latin typeface="Times New Roman"/>
              </a:rPr>
              <a:t>Lesson 3: 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ff00"/>
                </a:solidFill>
                <a:latin typeface="Times New Roman"/>
              </a:rPr>
              <a:t>Planning a Fitness Program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8600" y="228600"/>
            <a:ext cx="8686800" cy="61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imes New Roman"/>
              </a:rPr>
              <a:t>Selecting the Right Activit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-Where you liv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-Your range of interes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-Your level of healt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28600" y="2743200"/>
          <a:ext cx="1600200" cy="10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743200"/>
                    <a:ext cx="160020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4920" y="228600"/>
            <a:ext cx="861048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-Time and plac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-Personal safet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-Comprehensive plann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09480" y="3962520"/>
          <a:ext cx="208620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962520"/>
                    <a:ext cx="20862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80880" y="304920"/>
            <a:ext cx="8458200" cy="53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Cross-Trainin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combining various exercise routines to help work different body system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09480" y="4648320"/>
          <a:ext cx="152424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648320"/>
                    <a:ext cx="15242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6934320" y="4648320"/>
          <a:ext cx="1944720" cy="189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4320" y="4648320"/>
                    <a:ext cx="1944720" cy="189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28600" y="304920"/>
            <a:ext cx="8686800" cy="55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Times New Roman"/>
              </a:rPr>
              <a:t>Basics of an Exercise Program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1.  </a:t>
            </a:r>
            <a:r>
              <a:rPr b="0" lang="en-US" sz="6000" spc="-1" strike="noStrike">
                <a:solidFill>
                  <a:srgbClr val="00ff00"/>
                </a:solidFill>
                <a:latin typeface="Times New Roman"/>
              </a:rPr>
              <a:t>Overload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-working the body harder than it is normally worke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04920"/>
            <a:ext cx="876312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Physical Fitness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bility to carry out daily tasks easily and have enough reserve energy to respond to unexpected demand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71800" y="3429000"/>
            <a:ext cx="411480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04920" y="228600"/>
            <a:ext cx="8686800" cy="51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2.  </a:t>
            </a:r>
            <a:r>
              <a:rPr b="0" lang="en-US" sz="6000" spc="-1" strike="noStrike">
                <a:solidFill>
                  <a:srgbClr val="00ff00"/>
                </a:solidFill>
                <a:latin typeface="Times New Roman"/>
              </a:rPr>
              <a:t>Progression-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gradual increase in overload necessary for achieving higher levels of fitnes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04920" y="228600"/>
            <a:ext cx="8534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0" lang="en-US" sz="6000" spc="-1" strike="noStrike">
                <a:solidFill>
                  <a:srgbClr val="00ff00"/>
                </a:solidFill>
                <a:latin typeface="Times New Roman"/>
              </a:rPr>
              <a:t>Specificity-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particular exercises and activities improve particular areas of health related fitnes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138240"/>
            <a:ext cx="8153280" cy="67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Times New Roman"/>
              </a:rPr>
              <a:t>In order to derive maximum benefit from an exercise program, you need to include three basic stages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Warm-up,workout, and cool-dow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52280" y="0"/>
            <a:ext cx="8686800" cy="68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Times New Roman"/>
              </a:rPr>
              <a:t>Warm-up-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engaging in activity that prepares the muscles for the work that is to come.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.  Raise body tempera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.  Stretch large muscles slowly and smooth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.  Perform activity slowly for about 5 minu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924680" y="2286000"/>
          <a:ext cx="1022400" cy="253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2286000"/>
                    <a:ext cx="1022400" cy="25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8600" y="228600"/>
            <a:ext cx="9144000" cy="54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Times New Roman"/>
              </a:rPr>
              <a:t>Workout-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perform activity at its highest peak.  Needs to follow the “FIT” formula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F=Frequency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how often each wee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I=Intensity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how hard you work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=Tim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how much time each s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228600"/>
            <a:ext cx="8458200" cy="70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Times New Roman"/>
              </a:rPr>
              <a:t>Frequency-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3-4 times a wee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Times New Roman"/>
              </a:rPr>
              <a:t>Intensity-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verload,target hear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ran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Times New Roman"/>
              </a:rPr>
              <a:t>Duration-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20-30 minutes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orking at your target hear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rang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238880" y="2286000"/>
          <a:ext cx="1441440" cy="17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2286000"/>
                    <a:ext cx="1441440" cy="17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80880" y="304920"/>
            <a:ext cx="8458200" cy="60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Times New Roman"/>
              </a:rPr>
              <a:t>Cool-dow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ngaging in activity to gradually decrease activit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5 minutes of slowed activity followed by 5 minutes of stretching.  Heart rate is within 20-30 beats of your regular heart r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28600" y="228600"/>
            <a:ext cx="8686800" cy="60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Times New Roman"/>
              </a:rPr>
              <a:t>Monitoring Your Progres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-Do I feel better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Exercise journa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-Decrease in resting heart rat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52280" y="3809880"/>
          <a:ext cx="2212920" cy="12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809880"/>
                    <a:ext cx="2212920" cy="12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7086600" y="2971800"/>
            <a:ext cx="1676520" cy="1573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2971800"/>
            <a:ext cx="2971800" cy="2787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04920"/>
            <a:ext cx="8763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400" spc="-1" strike="noStrike">
                <a:solidFill>
                  <a:srgbClr val="00ff00"/>
                </a:solidFill>
                <a:latin typeface="Times New Roman"/>
              </a:rPr>
              <a:t>Benefits of Fitness</a:t>
            </a:r>
            <a:endParaRPr b="0" lang="en-US" sz="1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228600"/>
            <a:ext cx="8534520" cy="63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ff00"/>
                </a:solidFill>
                <a:latin typeface="Times New Roman"/>
              </a:rPr>
              <a:t>Physical Health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-Reduces chance of acquiring         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diseas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-Allows you to be more ac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-Gives you higher energy level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-Improves your postu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010280" y="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28600"/>
            <a:ext cx="8763120" cy="73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ff00"/>
                </a:solidFill>
                <a:latin typeface="Times New Roman"/>
              </a:rPr>
              <a:t>Mental/Emotional Health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-Makes you intellectually more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du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-Relief from str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-Helps control de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-Sense of pride and accomplish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-Contributes to positive self-este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486400" y="1371600"/>
            <a:ext cx="3887640" cy="3887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30492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imes New Roman"/>
              </a:rPr>
              <a:t>Social Health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057400"/>
            <a:ext cx="815364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-reduces stress that can interfere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ith good relationship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-builds self-confiden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-gives opportunity to interact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nd cooperate with oth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380880"/>
            <a:ext cx="8534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ff00"/>
                </a:solidFill>
                <a:latin typeface="Times New Roman"/>
              </a:rPr>
              <a:t>Basic Components of Physical Fitnes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304920"/>
            <a:ext cx="8686800" cy="56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Times New Roman"/>
              </a:rPr>
              <a:t>Body Composi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Ratio of body fat to lean body tissue, including muscle, bone, water, and connective tissue such as ligaments, cartilage, and tendo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est: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inch test-using skin calipers, underwater weigh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2T23:52:49Z</dcterms:created>
  <dc:creator>Beth M. Little</dc:creator>
  <dc:description/>
  <dc:language>en-US</dc:language>
  <cp:lastModifiedBy>Chatham County Schools</cp:lastModifiedBy>
  <cp:lastPrinted>1999-09-06T04:37:05Z</cp:lastPrinted>
  <dcterms:modified xsi:type="dcterms:W3CDTF">2005-08-27T19:29:23Z</dcterms:modified>
  <cp:revision>71</cp:revision>
  <dc:subject/>
  <dc:title>No Slide Title</dc:title>
</cp:coreProperties>
</file>